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8633E-A182-4FA5-B54C-6BD2B3C80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4509D-2588-403B-B67A-BA058AE21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76959-B5B4-441B-ACD9-680F41056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AA274-53B3-4C07-B3AC-764B508AF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E6A0D-A58E-4450-B56A-60D50B24E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C1C06-716D-4306-8314-857DC6165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3D334-6A62-466A-9344-2597FFF75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65068-F690-4B9E-997F-CA675C3F3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E8537-32D6-4C03-81FD-9E0E6162F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3151F-FEEF-466A-BBD1-60EAE2A6A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45B26-21F5-4ED9-B6FB-E1565CDC8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99F37-EC9E-41AE-AF4F-58BF65148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974D-9A34-49DD-855E-EEA2BF25367D}" type="datetime">
              <a:rPr b="0" lang="en-US" sz="1400" spc="-1" strike="noStrike">
                <a:solidFill>
                  <a:srgbClr val="000000"/>
                </a:solidFill>
                <a:latin typeface="Arial"/>
              </a:rPr>
              <a:t>07/31/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2086C-3BF9-4FD7-A48D-117CBA1C20AE}"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RƯỜNG ĐẠI HỌC KINH TẾ QUỐC DÂN</a:t>
            </a:r>
            <a:br>
              <a:rPr sz="2400"/>
            </a:br>
            <a:r>
              <a:rPr b="1" lang="pt-BR" sz="2400" spc="-1" strike="noStrike">
                <a:solidFill>
                  <a:srgbClr val="000000"/>
                </a:solidFill>
                <a:latin typeface="Arial"/>
              </a:rPr>
              <a:t>VIỆN THƯƠNG MẠI &amp; KTQT</a:t>
            </a:r>
            <a:endParaRPr b="0" lang="en-US" sz="24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2800" spc="-1" strike="noStrike">
                <a:solidFill>
                  <a:srgbClr val="000000"/>
                </a:solidFill>
                <a:latin typeface="Arial"/>
              </a:rPr>
              <a:t>BÀI 6</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Ổ CHỨC KINH DOANH HÀNG HÓA</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ONG CƠ CHẾ THỊ TRƯỜNG</a:t>
            </a:r>
            <a:endParaRPr b="0" lang="en-US" sz="2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229FCCD7-DB23-4102-99D7-1D816B7C3D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09" name="Text Box 3"/>
          <p:cNvSpPr/>
          <p:nvPr/>
        </p:nvSpPr>
        <p:spPr>
          <a:xfrm>
            <a:off x="304920" y="1371600"/>
            <a:ext cx="8534160" cy="4727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9999"/>
                </a:solidFill>
                <a:latin typeface="Times New Roman"/>
              </a:rPr>
              <a:t>Các mục tiêu kinh doanh của doanh nghiệp thương mại:</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Mục tiêu quan trọng nhấ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Mục tiêu cơ bản lâu dài hơn </a:t>
            </a:r>
            <a:endParaRPr b="0" lang="en-US" sz="20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Hình 6.2: Tháp mục tiêu của doanh nghiệp</a:t>
            </a:r>
            <a:endParaRPr b="0" lang="en-US" sz="2800" spc="-1" strike="noStrike">
              <a:solidFill>
                <a:srgbClr val="000000"/>
              </a:solidFill>
              <a:latin typeface=".VnRevue"/>
            </a:endParaRPr>
          </a:p>
        </p:txBody>
      </p:sp>
      <p:sp>
        <p:nvSpPr>
          <p:cNvPr id="110" name="AutoShape 5"/>
          <p:cNvSpPr/>
          <p:nvPr/>
        </p:nvSpPr>
        <p:spPr>
          <a:xfrm>
            <a:off x="1295280" y="2362320"/>
            <a:ext cx="3005280" cy="2535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1" name="Line 6"/>
          <p:cNvSpPr/>
          <p:nvPr/>
        </p:nvSpPr>
        <p:spPr>
          <a:xfrm flipV="1">
            <a:off x="1477800" y="4606560"/>
            <a:ext cx="261648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3600" spc="-1" strike="noStrike">
              <a:solidFill>
                <a:srgbClr val="000000"/>
              </a:solidFill>
              <a:latin typeface=".VnRevue"/>
            </a:endParaRPr>
          </a:p>
        </p:txBody>
      </p:sp>
      <p:sp>
        <p:nvSpPr>
          <p:cNvPr id="112" name="Line 7"/>
          <p:cNvSpPr/>
          <p:nvPr/>
        </p:nvSpPr>
        <p:spPr>
          <a:xfrm>
            <a:off x="1814400" y="4032360"/>
            <a:ext cx="193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3" name="Line 8"/>
          <p:cNvSpPr/>
          <p:nvPr/>
        </p:nvSpPr>
        <p:spPr>
          <a:xfrm>
            <a:off x="2178000" y="3405240"/>
            <a:ext cx="12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4" name="Line 9"/>
          <p:cNvSpPr/>
          <p:nvPr/>
        </p:nvSpPr>
        <p:spPr>
          <a:xfrm flipH="1">
            <a:off x="3123720" y="2590920"/>
            <a:ext cx="104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5" name="Line 10"/>
          <p:cNvSpPr/>
          <p:nvPr/>
        </p:nvSpPr>
        <p:spPr>
          <a:xfrm flipH="1" flipV="1">
            <a:off x="4292280" y="4800240"/>
            <a:ext cx="88884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3600" spc="-1" strike="noStrike">
              <a:solidFill>
                <a:srgbClr val="000000"/>
              </a:solidFill>
              <a:latin typeface=".VnRevue"/>
            </a:endParaRPr>
          </a:p>
        </p:txBody>
      </p:sp>
      <p:sp>
        <p:nvSpPr>
          <p:cNvPr id="116" name="Line 11"/>
          <p:cNvSpPr/>
          <p:nvPr/>
        </p:nvSpPr>
        <p:spPr>
          <a:xfrm>
            <a:off x="2532240" y="2817720"/>
            <a:ext cx="51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7" name="Line 12"/>
          <p:cNvSpPr/>
          <p:nvPr/>
        </p:nvSpPr>
        <p:spPr>
          <a:xfrm flipV="1">
            <a:off x="1609560" y="4334040"/>
            <a:ext cx="237996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3600" spc="-1" strike="noStrike">
              <a:solidFill>
                <a:srgbClr val="000000"/>
              </a:solidFill>
              <a:latin typeface=".VnRevue"/>
            </a:endParaRPr>
          </a:p>
        </p:txBody>
      </p:sp>
      <p:sp>
        <p:nvSpPr>
          <p:cNvPr id="118" name="Line 13"/>
          <p:cNvSpPr/>
          <p:nvPr/>
        </p:nvSpPr>
        <p:spPr>
          <a:xfrm>
            <a:off x="2021040" y="3708360"/>
            <a:ext cx="15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9" name="Line 14"/>
          <p:cNvSpPr/>
          <p:nvPr/>
        </p:nvSpPr>
        <p:spPr>
          <a:xfrm>
            <a:off x="2328840" y="3105000"/>
            <a:ext cx="92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8DA27361-C7C0-4B6C-854F-BCA3AC5917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21" name="Text Box 3"/>
          <p:cNvSpPr/>
          <p:nvPr/>
        </p:nvSpPr>
        <p:spPr>
          <a:xfrm>
            <a:off x="304920" y="137160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3. Các nguyên tắc trong kinh doan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Phải sản xuất và kinh doanh những hàng hóa dịch vụ có chất lượng tốt, đáp ứng nhu cầu của khách hà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ong kinh doanh trước hết phải lôi cuốn khách hàng, rồi sau đó mới nghĩ đến cạnh tran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ong kinh doanh mỗi khi làm lợi cho mình thì đồng thời phải làm lợi cho khách hà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ìm kiếm thị trường đang lên và chiếm lĩnh thị trường nhanh chó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CE09116B-4FAD-4575-9E8F-E64C288CA0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23" name="Text Box 3"/>
          <p:cNvSpPr/>
          <p:nvPr/>
        </p:nvSpPr>
        <p:spPr>
          <a:xfrm>
            <a:off x="304920" y="1406520"/>
            <a:ext cx="8534160" cy="4177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3. Các nguyên tắc trong kinh doan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Đầu tư vào tài năng và nguồn lực để tạo ra được nhiều giá trị sản phẩm dịch vụ.</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Nhận thức và nắm cho được nhu cầu của thị trường để đáp ứng đầy đủ.</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Mọi hoạt động kinh doanh hàng hóa dịch vụ bao giờ cũng tuân theo cơ chế thị trường và thông qua hoạt động của doanh nghiệ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1D1D4D49-231C-4E74-AC95-D269F8C949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5" name="Text Box 3"/>
          <p:cNvSpPr/>
          <p:nvPr/>
        </p:nvSpPr>
        <p:spPr>
          <a:xfrm>
            <a:off x="304920" y="137160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chuyên môn hoá: chuyên kinh doanh một hoặc một nhóm hàng hoá có cùng công dụng,</a:t>
            </a:r>
            <a:r>
              <a:rPr b="0" lang="pt-BR" sz="2800" spc="-1" strike="noStrike">
                <a:solidFill>
                  <a:srgbClr val="000000"/>
                </a:solidFill>
                <a:latin typeface="Times New Roman"/>
              </a:rPr>
              <a:t> trạng thái hoặc tính chất nhất địn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000000"/>
                </a:solidFill>
                <a:uFillTx/>
                <a:latin typeface="Times New Roman"/>
              </a:rPr>
              <a:t>Loại hình kinh doanh này có ưu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Nắm chắc được thông tin về người mua, người bán, giá cả thị trường, tình hình hàng hoá và dịch vụ nên có khả năng cạnh tranh trên thị trường, có thể vươn lên thành độc quyền kinh doa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9A87F559-B966-4134-969C-36BCDA0E65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7" name="Text Box 3"/>
          <p:cNvSpPr/>
          <p:nvPr/>
        </p:nvSpPr>
        <p:spPr>
          <a:xfrm>
            <a:off x="304920" y="1371600"/>
            <a:ext cx="853416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Times New Roman"/>
              </a:rPr>
              <a:t> </a:t>
            </a:r>
            <a:r>
              <a:rPr b="0" lang="pt-BR" sz="2600" spc="-1" strike="noStrike">
                <a:solidFill>
                  <a:srgbClr val="009999"/>
                </a:solidFill>
                <a:latin typeface="Times New Roman"/>
              </a:rPr>
              <a:t>1.</a:t>
            </a:r>
            <a:r>
              <a:rPr b="1" lang="pt-BR" sz="2600" spc="-1" strike="noStrike">
                <a:solidFill>
                  <a:srgbClr val="009999"/>
                </a:solidFill>
                <a:latin typeface="Times New Roman"/>
              </a:rPr>
              <a:t> Theo mức độ chuyên doanh hàng hóa:</a:t>
            </a:r>
            <a:r>
              <a:rPr b="1" lang="pt-BR" sz="2600" spc="-1" strike="noStrike">
                <a:solidFill>
                  <a:srgbClr val="000000"/>
                </a:solidFill>
                <a:latin typeface="Times New Roman"/>
              </a:rPr>
              <a:t> </a:t>
            </a:r>
            <a:endParaRPr b="0" lang="en-US" sz="2600" spc="-1" strike="noStrike">
              <a:solidFill>
                <a:srgbClr val="000000"/>
              </a:solidFill>
              <a:latin typeface=".VnRevue"/>
            </a:endParaRPr>
          </a:p>
          <a:p>
            <a:pPr indent="231840" algn="just">
              <a:lnSpc>
                <a:spcPct val="100000"/>
              </a:lnSpc>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66ff"/>
                </a:solidFill>
                <a:latin typeface="Times New Roman"/>
              </a:rPr>
              <a:t>Kinh doanh chuyên môn hoá:</a:t>
            </a:r>
            <a:r>
              <a:rPr b="0" i="1" lang="pt-BR" sz="2600" spc="-1" strike="noStrike">
                <a:solidFill>
                  <a:srgbClr val="000000"/>
                </a:solidFill>
                <a:latin typeface="Times New Roman"/>
              </a:rPr>
              <a:t> (tiếp)</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rình độ chuyên môn hoá ngày càng được nâng cao</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Có khả năng đào tạo được những cán bộ quản lý ,kinh doanh giỏi. </a:t>
            </a:r>
            <a:endParaRPr b="0" lang="en-US" sz="26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66ff"/>
                </a:solidFill>
                <a:latin typeface="Times New Roman"/>
              </a:rPr>
              <a:t>- Kinh doanh tổng hợp:</a:t>
            </a:r>
            <a:r>
              <a:rPr b="1" lang="pt-BR" sz="2600" spc="-1" strike="noStrike">
                <a:solidFill>
                  <a:srgbClr val="000000"/>
                </a:solidFill>
                <a:latin typeface="Times New Roman"/>
              </a:rPr>
              <a:t> </a:t>
            </a:r>
            <a:endParaRPr b="0" lang="en-US" sz="26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Kinh doanh nhiều hàng hoá có công dụng, trạng thái, tính chất khác nhau</a:t>
            </a:r>
            <a:r>
              <a:rPr b="1" lang="pt-BR" sz="2600" spc="-1" strike="noStrike">
                <a:solidFill>
                  <a:srgbClr val="000000"/>
                </a:solidFill>
                <a:latin typeface="Times New Roman"/>
              </a:rPr>
              <a:t>.</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AAB6A2E7-1652-434A-AA48-F6D67FDEF8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9" name="Text Box 3"/>
          <p:cNvSpPr/>
          <p:nvPr/>
        </p:nvSpPr>
        <p:spPr>
          <a:xfrm>
            <a:off x="304920" y="1371600"/>
            <a:ext cx="8534160" cy="4421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r>
              <a:rPr b="1" lang="pt-BR" sz="1800" spc="-1" strike="noStrike">
                <a:solidFill>
                  <a:srgbClr val="000000"/>
                </a:solidFill>
                <a:latin typeface="Times New Roman"/>
              </a:rPr>
              <a:t>tiếp)</a:t>
            </a:r>
            <a:endParaRPr b="0" lang="en-US" sz="1800" spc="-1" strike="noStrike">
              <a:solidFill>
                <a:srgbClr val="000000"/>
              </a:solidFill>
              <a:latin typeface=".VnRevue"/>
            </a:endParaRPr>
          </a:p>
          <a:p>
            <a:pPr marL="609480" indent="-609480" algn="just">
              <a:lnSpc>
                <a:spcPct val="100000"/>
              </a:lnSpc>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Kinh doanh tổng hợ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0000"/>
                </a:solidFill>
                <a:uFillTx/>
                <a:latin typeface="Times New Roman"/>
              </a:rPr>
              <a:t>Loại hình kinh doanh này có ưu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Hạn chế được một số rủi ro trong kinh doanh do dễ chuyển hướng kinh doan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Vốn kinh doanh ít bị ứ đọng do mua nhanh, bán nhanh và đầu tư vốn cho nhiều ngành hàng, có khả năng quay vòng nhanh, bảo đảm cung ứng đồng bộ hàng hoá cho các nhu cầu.</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ó thị trường rộng, luôn có thị trường mới và đối đầu với cạnh tranh đã kích thích năng động, sáng tạo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0D8E655-0CB5-48F5-84D1-4590D89B62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1" name="Text Box 3"/>
          <p:cNvSpPr/>
          <p:nvPr/>
        </p:nvSpPr>
        <p:spPr>
          <a:xfrm>
            <a:off x="304920" y="1371600"/>
            <a:ext cx="8534160" cy="4115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r>
              <a:rPr b="1" lang="pt-BR" sz="1800" spc="-1" strike="noStrike">
                <a:solidFill>
                  <a:srgbClr val="000000"/>
                </a:solidFill>
                <a:latin typeface="Times New Roman"/>
              </a:rPr>
              <a:t>tiếp)</a:t>
            </a:r>
            <a:endParaRPr b="0" lang="en-US" sz="1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 Kinh doanh tổng hợp:</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0000"/>
                </a:solidFill>
                <a:uFillTx/>
                <a:latin typeface="Times New Roman"/>
              </a:rPr>
              <a:t>Nhược điểm:</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ó vươn lên độc quyền trên thị trường </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ó đào tạo, bồi dưỡng được các chuyên gia ngành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B0AAB620-C3F4-4324-B63B-A044FCDE76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3" name="Text Box 3"/>
          <p:cNvSpPr/>
          <p:nvPr/>
        </p:nvSpPr>
        <p:spPr>
          <a:xfrm>
            <a:off x="304920" y="1371600"/>
            <a:ext cx="8762760" cy="4921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66ff"/>
                </a:solidFill>
                <a:latin typeface="Times New Roman"/>
              </a:rPr>
              <a:t> </a:t>
            </a:r>
            <a:r>
              <a:rPr b="0" lang="pt-BR" sz="2400" spc="-1" strike="noStrike">
                <a:solidFill>
                  <a:srgbClr val="0066ff"/>
                </a:solidFill>
                <a:latin typeface="Times New Roman"/>
              </a:rPr>
              <a:t>2.</a:t>
            </a:r>
            <a:r>
              <a:rPr b="1" lang="pt-BR" sz="2400" spc="-1" strike="noStrike">
                <a:solidFill>
                  <a:srgbClr val="0066ff"/>
                </a:solidFill>
                <a:latin typeface="Times New Roman"/>
              </a:rPr>
              <a:t> Theo chủng loại hàng hoá kinh doanh:</a:t>
            </a:r>
            <a:r>
              <a:rPr b="1" i="1" lang="pt-BR"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 Loại hình kinh doanh hàng công nghiệp tiêu dùng</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ặc điểm: </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iều người mua, gắn với cuộc sống hàng ngày. </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ự khác biệt giữa người tiêu dùng rất lớn (thành phần, xã hội, nghề nghiệp, trình độ, tập quán...)</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iêu dùng cũng có những đặc thù riêng và khác biệt nhau.</a:t>
            </a:r>
            <a:endParaRPr b="0" lang="en-US" sz="2400" spc="-1" strike="noStrike">
              <a:solidFill>
                <a:srgbClr val="000000"/>
              </a:solidFill>
              <a:latin typeface=".VnRevue"/>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ỗi lần mua không nhiều, lặt vặt và phân tán, vì nhu cầu đời sống rất đa dạng</a:t>
            </a:r>
            <a:endParaRPr b="0" lang="en-US" sz="2400" spc="-1" strike="noStrike">
              <a:solidFill>
                <a:srgbClr val="000000"/>
              </a:solidFill>
              <a:latin typeface=".VnRevue"/>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gười tiêu dùng ít hiểu biết về hàng hoá có hệ thống.</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ức mua biến đổi lớn, họ thường cân nhắc khi cần mua sắm.</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F7D17BF-E0FC-42BD-A9FD-8DB72660FB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5" name="Text Box 3"/>
          <p:cNvSpPr/>
          <p:nvPr/>
        </p:nvSpPr>
        <p:spPr>
          <a:xfrm>
            <a:off x="304920" y="137160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r>
              <a:rPr b="1" i="1" lang="pt-BR" sz="3600" spc="-1" strike="noStrike">
                <a:solidFill>
                  <a:srgbClr val="000000"/>
                </a:solidFill>
                <a:latin typeface="Times New Roman"/>
              </a:rPr>
              <a:t> </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Loại hình kinh doanh hàng nông sả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Kinh doanh hàng nông sản có những đặc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ính thời vụ</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ính phân tá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khu vực</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tươi số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không ổn đị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154B2D59-7663-40B7-9E49-6521B3315A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7" name="Text Box 3"/>
          <p:cNvSpPr/>
          <p:nvPr/>
        </p:nvSpPr>
        <p:spPr>
          <a:xfrm>
            <a:off x="304920" y="1371600"/>
            <a:ext cx="8534160" cy="463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Times New Roman"/>
              </a:rPr>
              <a:t> </a:t>
            </a:r>
            <a:r>
              <a:rPr b="0" lang="pt-BR" sz="2800" spc="-1" strike="noStrike">
                <a:solidFill>
                  <a:srgbClr val="009999"/>
                </a:solidFill>
                <a:latin typeface="Times New Roman"/>
              </a:rPr>
              <a:t>-</a:t>
            </a:r>
            <a:r>
              <a:rPr b="1" lang="pt-BR" sz="2800" spc="-1" strike="noStrike">
                <a:solidFill>
                  <a:srgbClr val="009999"/>
                </a:solidFill>
                <a:latin typeface="Times New Roman"/>
              </a:rPr>
              <a:t> Loại hình kinh doanh tư liệu sản xuất công nghiệp</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hị trường tiêu thụ tư liệu sản xuất dựa vào sản xuất và phục vụ sản xuất.</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chủ yếu là các đơn vị công nghiệp, xây dựng, giao thông vận tải, thăm dò địa chất...</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mỗi lần mua khá nhiều.</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biết nhiều về tính năng và giá trị sử dụng của các mặt hàng khác nhau</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Kinh doanh tư liệu sản xuất cần đồng bộ.</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9569D18A-A854-4FD3-A6AA-3F6F8EB0C7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Bài 6: Tổ chức kinh doanh  hàng hóa trong cơ chế thị trường</a:t>
            </a:r>
            <a:endParaRPr b="0" lang="en-US" sz="3200" spc="-1" strike="noStrike">
              <a:solidFill>
                <a:srgbClr val="000000"/>
              </a:solidFill>
              <a:latin typeface="Arial"/>
            </a:endParaRPr>
          </a:p>
        </p:txBody>
      </p:sp>
      <p:sp>
        <p:nvSpPr>
          <p:cNvPr id="47"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1447920" y="2514600"/>
            <a:ext cx="6629400" cy="2837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 Bản chất và đặc trưng của các mối quan hệ kinh tế trong kinh doanh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I.  Kinh doanh và mục tiêu của kinh doanh thương mại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II. Lựa chọn các loại hình kinh doanh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V.Phương pháp luận xây dựng kế hoạch kinh doanh hàng hóa trong cơ chế thị trường</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8C61C825-F080-480E-9763-1D28982CF1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9" name="Text Box 3"/>
          <p:cNvSpPr/>
          <p:nvPr/>
        </p:nvSpPr>
        <p:spPr>
          <a:xfrm>
            <a:off x="304920" y="1371600"/>
            <a:ext cx="8534160" cy="3499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endParaRPr b="0" lang="en-US" sz="32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Times New Roman"/>
              </a:rPr>
              <a:t> </a:t>
            </a:r>
            <a:r>
              <a:rPr b="0" lang="pt-BR" sz="2800" spc="-1" strike="noStrike">
                <a:solidFill>
                  <a:srgbClr val="009999"/>
                </a:solidFill>
                <a:latin typeface="Times New Roman"/>
              </a:rPr>
              <a:t>-</a:t>
            </a:r>
            <a:r>
              <a:rPr b="1" i="1" lang="pt-BR" sz="2800" spc="-1" strike="noStrike">
                <a:solidFill>
                  <a:srgbClr val="009999"/>
                </a:solidFill>
                <a:latin typeface="Times New Roman"/>
              </a:rPr>
              <a:t>  Loại hình kinh doanh tư liệu sản xuất nông nghiệp</a:t>
            </a:r>
            <a:endParaRPr b="0" lang="en-US" sz="2800" spc="-1" strike="noStrike">
              <a:solidFill>
                <a:srgbClr val="000000"/>
              </a:solidFill>
              <a:latin typeface=".VnRevue"/>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ình hình sản xuất và nhu cầu phức tạp, máy móc thiết bị kỹ thuật cỡ lớn ,có loại nhỏ do doanh nghiệp vừa thậm chí ngành thủ công nghiệp </a:t>
            </a:r>
            <a:endParaRPr b="0" lang="en-US" sz="2800" spc="-1" strike="noStrike">
              <a:solidFill>
                <a:srgbClr val="000000"/>
              </a:solidFill>
              <a:latin typeface=".VnRevue"/>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ính thời vụ, tính thời gian rõ rệt</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CFEC49A4-C056-41AD-B734-7D2C13F16D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V.Phương pháp luận xây dựng </a:t>
            </a:r>
            <a:br>
              <a:rPr sz="3200"/>
            </a:br>
            <a:r>
              <a:rPr b="0" lang="pt-BR" sz="3200" spc="-1" strike="noStrike">
                <a:solidFill>
                  <a:srgbClr val="000000"/>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1" name="Text Box 3"/>
          <p:cNvSpPr/>
          <p:nvPr/>
        </p:nvSpPr>
        <p:spPr>
          <a:xfrm>
            <a:off x="304920" y="1676520"/>
            <a:ext cx="8534160" cy="27756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9999"/>
                </a:solidFill>
                <a:latin typeface="Times New Roman"/>
              </a:rPr>
              <a:t>1. Phương pháp luận lập kế hoạc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Mức lưu chuyển hàng hóa là chỉ tiêu đánh giá về mặt quy mô hoạt động của doanh nghiệp thương mại.</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Lưu chuyển hàng hóa có thể phân chia thành lưu chuyển hàng hóa bán buôn và lưu chuyển hàng hóa bán lẻ</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A2E21A50-BEF7-485A-97BF-2413EA3183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a:t>
            </a:r>
            <a:br>
              <a:rPr sz="3200"/>
            </a:br>
            <a:r>
              <a:rPr b="0" lang="pt-BR" sz="3200" spc="-1" strike="noStrike">
                <a:solidFill>
                  <a:srgbClr val="009999"/>
                </a:solidFill>
                <a:latin typeface="Times New Roman"/>
              </a:rPr>
              <a:t> kế hoạch kinh doanh hàng hóa trong cơ chế thị trường</a:t>
            </a:r>
            <a:endParaRPr b="0" lang="en-US" sz="3200" spc="-1" strike="noStrike">
              <a:solidFill>
                <a:srgbClr val="000000"/>
              </a:solidFill>
              <a:latin typeface="Arial"/>
            </a:endParaRPr>
          </a:p>
        </p:txBody>
      </p:sp>
      <p:sp>
        <p:nvSpPr>
          <p:cNvPr id="143" name="Text Box 3"/>
          <p:cNvSpPr/>
          <p:nvPr/>
        </p:nvSpPr>
        <p:spPr>
          <a:xfrm>
            <a:off x="304920" y="175248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1. Phương pháp luận lập kế hoạch</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Lưu chuyển hàng hóa thường có 4 loại:</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a. Lưu chuyển hàng hóa là những tư liệu sản xuất - yếu tố đầu vào sản xuất của các doanh nghiệp, </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b. Lưu chuyển hàng hóa là các nông sản phẩm </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c. Lưu chuyển hàng hóa là các tư liệu tiêu dùng phục vụ cho tiêu dùng cá nhân</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d. Lưu chuyển hàng hóa là các sản phẩm xuất nhập khẩu tham gia vào thương mại quốc tế.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F5D415CA-99EC-4BCC-ABF3-EEFCEC336F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5" name="Text Box 3"/>
          <p:cNvSpPr/>
          <p:nvPr/>
        </p:nvSpPr>
        <p:spPr>
          <a:xfrm>
            <a:off x="304920" y="1523880"/>
            <a:ext cx="8534160" cy="4555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hiệm vụ chủ yếu của kế hoạch lưu chuyển hàng hóa </a:t>
            </a:r>
            <a:endParaRPr b="0" lang="en-US" sz="28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Đáp ứng kịp thời nhu cầu của khách hàng về số lượng, chất lượng, chủng loại và thời hạn giao hàng, </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 Khai thác các nguồn hàng để thoả mãn đầy đủ các nhu cầu của thị trường.</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Thiết lập hợp lý tỷ lệ giữa các hình thức lưu chuyển thẳng và lưu chuyển qua kho.</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d. Hình thành đầy đủ và đồng bộ lực lượng dự trữ hàng hóa ở các doanh nghiệp thương mại.</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 Tăng nhanh tốc độ chu chuyển của vốn lưu độ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4E39A092-3154-4452-9A04-11E4A70C79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7" name="Text Box 3"/>
          <p:cNvSpPr/>
          <p:nvPr/>
        </p:nvSpPr>
        <p:spPr>
          <a:xfrm>
            <a:off x="304920" y="1523880"/>
            <a:ext cx="8534160" cy="3993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Các chỉ tiêu chủ yếu của kế hoạch lưu chuyển hàng hóa gồm:</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a. Doanh số bán hàng (theo các hình thức bán)</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b. Doanh số mua vào (theo các nguồn thu mua)</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c. Tồn kho hàng hóa ở các doanh nghiệp đầu kỳ và cuối kỳ kế hoạch.</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d. Tốc độ chu chuyển của vốn lưu động kỳ kế hoạch.</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288B7C9E-82BF-4C8F-A7C8-0477089B30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9" name="Text Box 3"/>
          <p:cNvSpPr/>
          <p:nvPr/>
        </p:nvSpPr>
        <p:spPr>
          <a:xfrm>
            <a:off x="304920" y="1523880"/>
            <a:ext cx="85341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Kế hoạch lưu chuyển được xây dựng bằng 2 phương pháp:</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Phương pháp thống kê - kinh nghiệm</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ực chất của phương pháp này là trên cơ sở của những số liệu báo cáo về hoạt động kinh doanh của 6 tháng hay 9 tháng (căn cứ vào thời điểm lên dự án kế hoạch) và ước thực hiện của kỳ còn lại để xác định ước thực hiện kế hoạch lưu chuyển trong năm.</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Phương pháp kinh tế - kỹ thuật: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ây là phương pháp kế hoạch hoá lưu chuyển hàng hóa được đánh giá là chính xác và có cơ sở. Bởi vì, cơ sở để làm kế hoạch lưu chuyển hàng hóa của doanh nghiệp thương mại là nhu cầu khách hàng và khả năng khai thác nguồn hàng để thoả mãn nhu cầu đó..</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2519C5C5-6B3F-458D-B81E-3A9F4ED1AB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1" name="Text Box 3"/>
          <p:cNvSpPr/>
          <p:nvPr/>
        </p:nvSpPr>
        <p:spPr>
          <a:xfrm>
            <a:off x="304920" y="1523880"/>
            <a:ext cx="8534160" cy="4206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009999"/>
                </a:solidFill>
                <a:uFillTx/>
                <a:latin typeface="Times New Roman"/>
              </a:rPr>
              <a:t>Cách tính các chỉ tiê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ổng doanh số bán hàng (DS theo phương pháp thống kê):</a:t>
            </a:r>
            <a:endParaRPr b="0" lang="en-US" sz="2400" spc="-1" strike="noStrike">
              <a:solidFill>
                <a:srgbClr val="000000"/>
              </a:solidFill>
              <a:latin typeface=".VnRevu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DS = DS</a:t>
            </a:r>
            <a:r>
              <a:rPr b="1" i="1" lang="pt-BR" sz="3200" spc="-1" strike="noStrike" baseline="-25000">
                <a:solidFill>
                  <a:srgbClr val="000000"/>
                </a:solidFill>
                <a:latin typeface="Times New Roman"/>
              </a:rPr>
              <a:t>BC</a:t>
            </a:r>
            <a:r>
              <a:rPr b="1" i="1" lang="pt-BR" sz="3200" spc="-1" strike="noStrike">
                <a:solidFill>
                  <a:srgbClr val="000000"/>
                </a:solidFill>
                <a:latin typeface="Times New Roman"/>
              </a:rPr>
              <a:t> . (1 + h)</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Trong đó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S – Doanh số bán hà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S</a:t>
            </a:r>
            <a:r>
              <a:rPr b="1" i="1" lang="pt-BR" sz="2400" spc="-1" strike="noStrike" baseline="-25000">
                <a:solidFill>
                  <a:srgbClr val="000000"/>
                </a:solidFill>
                <a:latin typeface="Times New Roman"/>
              </a:rPr>
              <a:t>BC</a:t>
            </a:r>
            <a:r>
              <a:rPr b="1" i="1" lang="pt-BR" sz="2400" spc="-1" strike="noStrike">
                <a:solidFill>
                  <a:srgbClr val="000000"/>
                </a:solidFill>
                <a:latin typeface="Times New Roman"/>
              </a:rPr>
              <a:t> – Doanh số bán hàng kỳ báo cáo</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h – Nhịp độ tăng giảm về mức bán trong kỳ</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hỉ tiêu doanh số bán còn có 3 cách tính khác...)</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AE277A5-BC93-4523-9A4F-6307CB4DFA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3" name="Text Box 3"/>
          <p:cNvSpPr/>
          <p:nvPr/>
        </p:nvSpPr>
        <p:spPr>
          <a:xfrm>
            <a:off x="304920" y="1523880"/>
            <a:ext cx="8534160" cy="4908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9999"/>
                </a:solidFill>
                <a:uFillTx/>
                <a:latin typeface="Times New Roman"/>
              </a:rPr>
              <a:t>Cách tính các chỉ tiêu:</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Lượng hàng hóa đầu kỳ (Dđk) trong kế hoạch lưu chuyển, được xác định theo phương pháp ước tính; còn dự trữ cuối kỳ (Dck) xác định theo phương pháp định mức cụ thể.</a:t>
            </a:r>
            <a:endParaRPr b="0" lang="en-US" sz="28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Dck = m . 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m - Mức xuất bán bình quân ngày đêm, được tình bằng cách lấy tổng mức bán trong kỳ chia cho số ngày trong k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 - Mức dự trữ hàng hóa (ngày).</a:t>
            </a:r>
            <a:r>
              <a:rPr b="0" lang="fr-FR"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797294B-E5E8-46F7-96D4-1EE7C96A12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5" name="Text Box 3"/>
          <p:cNvSpPr/>
          <p:nvPr/>
        </p:nvSpPr>
        <p:spPr>
          <a:xfrm>
            <a:off x="304920" y="1523880"/>
            <a:ext cx="853416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9999"/>
                </a:solidFill>
                <a:uFillTx/>
                <a:latin typeface="Times New Roman"/>
              </a:rPr>
              <a:t>Cách tính các chỉ tiêu:</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Để tính mức bán bình quân ngày đêm được chính xác hơn, người ta dùng công thức sau :</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a:t>
            </a:r>
            <a:r>
              <a:rPr b="1" lang="fr-FR" sz="2800" spc="-1" strike="noStrike">
                <a:solidFill>
                  <a:srgbClr val="000000"/>
                </a:solidFill>
                <a:latin typeface="Times New Roman"/>
              </a:rPr>
              <a:t>N</a:t>
            </a:r>
            <a:r>
              <a:rPr b="1" lang="en-US" sz="3200" spc="-1" strike="noStrike">
                <a:solidFill>
                  <a:srgbClr val="000000"/>
                </a:solidFill>
                <a:latin typeface="Times New Roman"/>
              </a:rPr>
              <a:t> + Ddk</a:t>
            </a:r>
            <a:endParaRPr b="0" lang="en-US" sz="32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  =---------------   </a:t>
            </a:r>
            <a:endParaRPr b="0" lang="en-US" sz="32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65 + Dck</a:t>
            </a: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ong đó:</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 - Mức hàng hóa nhập kho kỳ kế hoạch.</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ck - Mức dự trữ hàng hóa  cuối kỳ kế hoạch (ngày).</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72E9DD06-F13A-47FC-B57F-16F2DECEBE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7" name="Text Box 3"/>
          <p:cNvSpPr/>
          <p:nvPr/>
        </p:nvSpPr>
        <p:spPr>
          <a:xfrm>
            <a:off x="304920" y="1523880"/>
            <a:ext cx="8534160" cy="34462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2. Công tác kế hoạch - nghiệp vụ kinh doanh ở các doanh nghiệp thương mại</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Nghiên cứu và nắm nhu cầu cụ thể của thị trường về các hàng hóa dịch vụ.</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 Xác định các nguồn hàng kinh doanh</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 Xây dựng kế hoạch kinh doanh mặt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2815ED30-8B4C-4180-A976-761CA3686B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50" name="Text Box 3"/>
          <p:cNvSpPr/>
          <p:nvPr/>
        </p:nvSpPr>
        <p:spPr>
          <a:xfrm>
            <a:off x="304920" y="137160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1. Bản c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a. Cơ sở của việc hình thành quan hệ kinh tế giữa các doanh nghiệp là sự  phân công lao động xã hội.</a:t>
            </a:r>
            <a:r>
              <a:rPr b="1" i="1" lang="pt-BR" sz="2800" spc="-1" strike="noStrike">
                <a:solidFill>
                  <a:srgbClr val="000000"/>
                </a:solidFill>
                <a:latin typeface="Times New Roman"/>
              </a:rPr>
              <a:t> Phân công lao động xã hội  định ra  sự cần thiết phải trao đổi sản phẩm giữa các đơn vị sản xuất kinh doanh với nhau</a:t>
            </a:r>
            <a:endParaRPr b="0" lang="en-US" sz="2800" spc="-1" strike="noStrike">
              <a:solidFill>
                <a:srgbClr val="000000"/>
              </a:solidFill>
              <a:latin typeface=".VnRevue"/>
            </a:endParaRPr>
          </a:p>
        </p:txBody>
      </p:sp>
      <p:grpSp>
        <p:nvGrpSpPr>
          <p:cNvPr id="51" name=""/>
          <p:cNvGrpSpPr/>
          <p:nvPr/>
        </p:nvGrpSpPr>
        <p:grpSpPr>
          <a:xfrm>
            <a:off x="1371600" y="2060640"/>
            <a:ext cx="6095520" cy="1970280"/>
            <a:chOff x="1371600" y="2060640"/>
            <a:chExt cx="6095520" cy="1970280"/>
          </a:xfrm>
        </p:grpSpPr>
        <p:sp>
          <p:nvSpPr>
            <p:cNvPr id="52" name=""/>
            <p:cNvSpPr/>
            <p:nvPr/>
          </p:nvSpPr>
          <p:spPr>
            <a:xfrm>
              <a:off x="3574800" y="2060640"/>
              <a:ext cx="1642680" cy="197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nghiệp</a:t>
              </a:r>
              <a:endParaRPr b="0" lang="en-US" sz="28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53" name=""/>
            <p:cNvSpPr/>
            <p:nvPr/>
          </p:nvSpPr>
          <p:spPr>
            <a:xfrm>
              <a:off x="2276280" y="2786040"/>
              <a:ext cx="12981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4" name=""/>
            <p:cNvSpPr/>
            <p:nvPr/>
          </p:nvSpPr>
          <p:spPr>
            <a:xfrm>
              <a:off x="2268360" y="2971800"/>
              <a:ext cx="130608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5" name=""/>
            <p:cNvSpPr/>
            <p:nvPr/>
          </p:nvSpPr>
          <p:spPr>
            <a:xfrm>
              <a:off x="1371600" y="2286000"/>
              <a:ext cx="91404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t>
              </a:r>
              <a:endParaRPr b="0" lang="en-US" sz="3600" spc="-1" strike="noStrike">
                <a:solidFill>
                  <a:srgbClr val="000000"/>
                </a:solidFill>
                <a:latin typeface=".VnRevue"/>
              </a:endParaRPr>
            </a:p>
          </p:txBody>
        </p:sp>
        <p:sp>
          <p:nvSpPr>
            <p:cNvPr id="56" name=""/>
            <p:cNvSpPr/>
            <p:nvPr/>
          </p:nvSpPr>
          <p:spPr>
            <a:xfrm>
              <a:off x="6553080" y="2286000"/>
              <a:ext cx="91404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a:t>
              </a:r>
              <a:endParaRPr b="0" lang="en-US" sz="3600" spc="-1" strike="noStrike">
                <a:solidFill>
                  <a:srgbClr val="000000"/>
                </a:solidFill>
                <a:latin typeface=".VnRevue"/>
              </a:endParaRPr>
            </a:p>
          </p:txBody>
        </p:sp>
        <p:sp>
          <p:nvSpPr>
            <p:cNvPr id="57" name=""/>
            <p:cNvSpPr/>
            <p:nvPr/>
          </p:nvSpPr>
          <p:spPr>
            <a:xfrm>
              <a:off x="5257440" y="2786040"/>
              <a:ext cx="12981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8" name=""/>
            <p:cNvSpPr/>
            <p:nvPr/>
          </p:nvSpPr>
          <p:spPr>
            <a:xfrm>
              <a:off x="5249520" y="2971800"/>
              <a:ext cx="130608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sp>
        <p:nvSpPr>
          <p:cNvPr id="3" name="PlaceHolder 2"/>
          <p:cNvSpPr>
            <a:spLocks noGrp="1"/>
          </p:cNvSpPr>
          <p:nvPr>
            <p:ph type="sldNum" idx="3"/>
          </p:nvPr>
        </p:nvSpPr>
        <p:spPr/>
        <p:txBody>
          <a:bodyPr/>
          <a:p>
            <a:fld id="{FF5565E3-D867-47F4-8E44-2FCDD7D851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9" name="Text Box 3"/>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b. Để thành công trong kinh doanh:</a:t>
            </a:r>
            <a:r>
              <a:rPr b="1" lang="en-US" sz="2800" spc="-1" strike="noStrike">
                <a:solidFill>
                  <a:srgbClr val="000000"/>
                </a:solidFill>
                <a:latin typeface="Times New Roman"/>
              </a:rPr>
              <a:t> Kế hoạch thu gom hàng hóa phải khoa học bao gồm các nội dung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Nguyên tắc mua được - bán được hợp pháp và có lãi.</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Cơ cấu thu mua phải phù hợp với nhu cầu tiêu dùng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18FA434D-C452-48B3-B1B1-9DA50447AB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1" name="Text Box 3"/>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ể thành công trong kinh doanh:</a:t>
            </a:r>
            <a:r>
              <a:rPr b="1" lang="en-US" sz="2800" spc="-1" strike="noStrike">
                <a:solidFill>
                  <a:srgbClr val="000000"/>
                </a:solidFill>
                <a:latin typeface="Times New Roman"/>
              </a:rPr>
              <a:t> Kế hoạch thu gom hàng hóa phải khoa học bao gồm các nội dung sau đây: (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Số lượng hàng thu mua. Về mặt nguyên tắc, số lượng hàng thu mua bao giờ cũng phải lớn hơn hoặc bằng số lượng tiêu thụ theo kế hoạch.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0AA8D5A0-B53A-449E-B760-F2E35361B2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3" name="Text Box 3"/>
          <p:cNvSpPr/>
          <p:nvPr/>
        </p:nvSpPr>
        <p:spPr>
          <a:xfrm>
            <a:off x="304920" y="152388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ể thành công trong kinh doanh:</a:t>
            </a:r>
            <a:r>
              <a:rPr b="1" lang="en-US" sz="2800" spc="-1" strike="noStrike">
                <a:solidFill>
                  <a:srgbClr val="000000"/>
                </a:solidFill>
                <a:latin typeface="Times New Roman"/>
              </a:rPr>
              <a:t> Kế hoạch thu gom hàng hóa phải khoa học bao gồm các nội dung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ụ thể:</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theo lô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hàng có giới hạn: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hàng với số lương thích hợ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948DA9E2-F1C9-4F3D-BB17-CEE3F497314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5" name="Text Box 3"/>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c. Doanh nghiệp phải bắt đúng thời cơ để nhập hàng.</a:t>
            </a:r>
            <a:r>
              <a:rPr b="1" i="1" lang="en-US" sz="2800" spc="-1" strike="noStrike">
                <a:solidFill>
                  <a:srgbClr val="000000"/>
                </a:solidFill>
                <a:latin typeface="Times New Roman"/>
              </a:rPr>
              <a:t> Thời cơ để nhập hàng củng là thời cơ để thu được lợi nhuận lớn n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trong thời gian hình thành hàng hóa: giai đoạn sản xuất thử; giai đoạn dùng thử, giai đoạn phổ biến và giai đoạn suy thoái, thì người ta thường nhập hàng vào giai đoạn phổ biến là tốt n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trong thời kỳ tiêu thụ</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664BFC99-64AA-4520-AA8B-9A93CE6A100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7" name="Text Box 3"/>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c. Doanh nghiệp phải bắt đúng thời cơ để nhập hàng.</a:t>
            </a:r>
            <a:r>
              <a:rPr b="1" i="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ở những đơn vị nhập hàng thì người ta nhập hàng ở những đơn vị nổi tiếng.</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ìm thời cơ trong khâu bán buôn thì nhập hàng ở khâu bán buôn đầu tiên.</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ìm thời cơ trong sự biến động chất lượng và thời vụ thì mua hàng thanh lý, tồn kho lâu ngày, hàng khó bảo quản về tân trang rồi bán cho người có nhu cầu.</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6288B40B-9E00-447A-9924-19A249C7A76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69"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Bản chất và cơ sở khoa học của các mối quan hệ kinh tế trong kinh doanh hàng hóa?</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Kinh doanh hàng hóa và các nguyên tắc đảm bảo cho sự thành công của doanh nghiệp trên thương trường?</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hân biệt các loại hình kinh doanh hàng hóa và cho biết biện pháp đẩy mạnh kinh doanh.</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ình bày phương pháp luận xây dựng kế hoạch kinh doanh hàng hóa trong cơ chế thị trường?</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ghệ thuật nhập hàng trong kinh doanh hàng hoá.</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C5AF8B2-DFEA-469C-860D-DFCB36C34CCE}"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0" name="Text Box 3"/>
          <p:cNvSpPr/>
          <p:nvPr/>
        </p:nvSpPr>
        <p:spPr>
          <a:xfrm>
            <a:off x="304920" y="1371600"/>
            <a:ext cx="8534160" cy="34459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b. Khái niệm:</a:t>
            </a:r>
            <a:r>
              <a:rPr b="1" i="1" lang="pt-BR" sz="2800" spc="-1" strike="noStrike">
                <a:solidFill>
                  <a:srgbClr val="000000"/>
                </a:solidFill>
                <a:latin typeface="Times New Roman"/>
              </a:rPr>
              <a:t> là tổng thể những mối quan hệ lẫn nhau về kinh tế, tổ chức và luật pháp phát sinh giữa các doanh nghiệp trong quá trình mua bán hàng hóa, dịch vụ. </a:t>
            </a:r>
            <a:endParaRPr b="0" lang="en-US" sz="28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heo nghĩa rộng, quan hệ kinh tế trong thương mại thực chất là hệ thống các quan hệ lẫn nhau giữa các doanh nghiệp về sự vận động của hàng hóa,</a:t>
            </a:r>
            <a:r>
              <a:rPr b="1" i="1" lang="pt-BR" sz="2400" spc="-1" strike="noStrike">
                <a:solidFill>
                  <a:srgbClr val="000000"/>
                </a:solidFill>
                <a:latin typeface="Times New Roman"/>
              </a:rPr>
              <a:t> dịch vụ trong những điều kiện kinh tế - xã hội nhất định.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2C82FFC4-2744-469E-8E70-6928E45AC8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2" name="Text Box 3"/>
          <p:cNvSpPr/>
          <p:nvPr/>
        </p:nvSpPr>
        <p:spPr>
          <a:xfrm>
            <a:off x="304920" y="1371600"/>
            <a:ext cx="853416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2. Những đặc trưng cơ bản của quan hệ kinh tế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nhất:</a:t>
            </a:r>
            <a:r>
              <a:rPr b="0" lang="en-US" sz="2800" spc="-1" strike="noStrike">
                <a:solidFill>
                  <a:srgbClr val="000000"/>
                </a:solidFill>
                <a:latin typeface="Times New Roman"/>
              </a:rPr>
              <a:t> Các mối quan hệ kinh tế giữa các doanh nghiệp mang tính chất hàng hóa tiền tệ.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hai:</a:t>
            </a:r>
            <a:r>
              <a:rPr b="0" lang="en-US" sz="2800" spc="-1" strike="noStrike">
                <a:solidFill>
                  <a:srgbClr val="000000"/>
                </a:solidFill>
                <a:latin typeface="Times New Roman"/>
              </a:rPr>
              <a:t> Các quan hệ kinh tế thiết lập trên cơ sở định hướng kế hoạch của Nhà nước và các chế độ, chính sách hiện hà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9B2446F8-E7D3-4835-8F79-3956E5089E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4" name="Text Box 3"/>
          <p:cNvSpPr/>
          <p:nvPr/>
        </p:nvSpPr>
        <p:spPr>
          <a:xfrm>
            <a:off x="304920" y="1371600"/>
            <a:ext cx="8534160" cy="4299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ba:</a:t>
            </a:r>
            <a:r>
              <a:rPr b="0" lang="en-US" sz="2800" spc="-1" strike="noStrike">
                <a:solidFill>
                  <a:srgbClr val="000000"/>
                </a:solidFill>
                <a:latin typeface="Times New Roman"/>
              </a:rPr>
              <a:t> Tính pháp lý của các mối quan hệ kinh tế trong thương mại được bảo đảm  bằng hệ thống luật pháp của Nhà nướ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tư:</a:t>
            </a:r>
            <a:r>
              <a:rPr b="0" lang="en-US" sz="2800" spc="-1" strike="noStrike">
                <a:solidFill>
                  <a:srgbClr val="000000"/>
                </a:solidFill>
                <a:latin typeface="Times New Roman"/>
              </a:rPr>
              <a:t> Hệ thống các mối quan hệ kinh tế giữa các doanh nghiệp biểu hiện quan hệ hợp tác, tôn trọng lẫn nhau và cùng có lợi.</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Times New Roman"/>
              </a:rPr>
              <a:t>Toàn bộ các mối quan hệ kinh tế phát sinh giữa các doanh nghiệp trong quá trình mua bán hàng hóa, dịch vụ tạo thành một hệ thống các mối  quan hệ kinh tế trong nền kinh tế quốc dân</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1E852599-2A18-4091-89C9-4603F7B226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6" name="Text Box 3"/>
          <p:cNvSpPr/>
          <p:nvPr/>
        </p:nvSpPr>
        <p:spPr>
          <a:xfrm>
            <a:off x="304920" y="1371600"/>
            <a:ext cx="8534160" cy="6415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7" name="Text Box 5"/>
          <p:cNvSpPr/>
          <p:nvPr/>
        </p:nvSpPr>
        <p:spPr>
          <a:xfrm>
            <a:off x="1066680" y="1219320"/>
            <a:ext cx="2448000" cy="32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ịnh hướng trước</a:t>
            </a:r>
            <a:endParaRPr b="0" lang="en-US" sz="1100" spc="-1" strike="noStrike">
              <a:solidFill>
                <a:srgbClr val="000000"/>
              </a:solidFill>
              <a:latin typeface=".VnRevue"/>
            </a:endParaRPr>
          </a:p>
        </p:txBody>
      </p:sp>
      <p:sp>
        <p:nvSpPr>
          <p:cNvPr id="68" name="Text Box 6"/>
          <p:cNvSpPr/>
          <p:nvPr/>
        </p:nvSpPr>
        <p:spPr>
          <a:xfrm>
            <a:off x="1066680" y="1601640"/>
            <a:ext cx="244800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Không định hướng trước</a:t>
            </a:r>
            <a:endParaRPr b="0" lang="en-US" sz="1100" spc="-1" strike="noStrike">
              <a:solidFill>
                <a:srgbClr val="000000"/>
              </a:solidFill>
              <a:latin typeface=".VnRevue"/>
            </a:endParaRPr>
          </a:p>
        </p:txBody>
      </p:sp>
      <p:sp>
        <p:nvSpPr>
          <p:cNvPr id="69" name="Text Box 7"/>
          <p:cNvSpPr/>
          <p:nvPr/>
        </p:nvSpPr>
        <p:spPr>
          <a:xfrm>
            <a:off x="1066680" y="203976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nh tế ngành</a:t>
            </a:r>
            <a:endParaRPr b="0" lang="en-US" sz="1100" spc="-1" strike="noStrike">
              <a:solidFill>
                <a:srgbClr val="000000"/>
              </a:solidFill>
              <a:latin typeface=".VnRevue"/>
            </a:endParaRPr>
          </a:p>
        </p:txBody>
      </p:sp>
      <p:sp>
        <p:nvSpPr>
          <p:cNvPr id="70" name="Text Box 8"/>
          <p:cNvSpPr/>
          <p:nvPr/>
        </p:nvSpPr>
        <p:spPr>
          <a:xfrm>
            <a:off x="1066680" y="243360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ên ngành</a:t>
            </a:r>
            <a:endParaRPr b="0" lang="en-US" sz="1100" spc="-1" strike="noStrike">
              <a:solidFill>
                <a:srgbClr val="000000"/>
              </a:solidFill>
              <a:latin typeface=".VnRevue"/>
            </a:endParaRPr>
          </a:p>
        </p:txBody>
      </p:sp>
      <p:sp>
        <p:nvSpPr>
          <p:cNvPr id="71" name="Text Box 9"/>
          <p:cNvSpPr/>
          <p:nvPr/>
        </p:nvSpPr>
        <p:spPr>
          <a:xfrm>
            <a:off x="1066680" y="282744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ãnh thổ</a:t>
            </a:r>
            <a:endParaRPr b="0" lang="en-US" sz="1100" spc="-1" strike="noStrike">
              <a:solidFill>
                <a:srgbClr val="000000"/>
              </a:solidFill>
              <a:latin typeface=".VnRevue"/>
            </a:endParaRPr>
          </a:p>
        </p:txBody>
      </p:sp>
      <p:sp>
        <p:nvSpPr>
          <p:cNvPr id="72" name="Text Box 10"/>
          <p:cNvSpPr/>
          <p:nvPr/>
        </p:nvSpPr>
        <p:spPr>
          <a:xfrm>
            <a:off x="1066680" y="322272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00"/>
                </a:solidFill>
                <a:latin typeface="Times New Roman"/>
              </a:rPr>
              <a:t>Giữa các lãnh thổ</a:t>
            </a:r>
            <a:endParaRPr b="0" lang="en-US" sz="1100" spc="-1" strike="noStrike">
              <a:solidFill>
                <a:srgbClr val="000000"/>
              </a:solidFill>
              <a:latin typeface=".VnRevue"/>
            </a:endParaRPr>
          </a:p>
        </p:txBody>
      </p:sp>
      <p:sp>
        <p:nvSpPr>
          <p:cNvPr id="73" name="Text Box 11"/>
          <p:cNvSpPr/>
          <p:nvPr/>
        </p:nvSpPr>
        <p:spPr>
          <a:xfrm>
            <a:off x="1066680" y="361800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rực tiếp</a:t>
            </a:r>
            <a:endParaRPr b="0" lang="en-US" sz="1100" spc="-1" strike="noStrike">
              <a:solidFill>
                <a:srgbClr val="000000"/>
              </a:solidFill>
              <a:latin typeface=".VnRevue"/>
            </a:endParaRPr>
          </a:p>
        </p:txBody>
      </p:sp>
      <p:sp>
        <p:nvSpPr>
          <p:cNvPr id="74" name="Text Box 12"/>
          <p:cNvSpPr/>
          <p:nvPr/>
        </p:nvSpPr>
        <p:spPr>
          <a:xfrm>
            <a:off x="1066680" y="401148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ián tiếp</a:t>
            </a:r>
            <a:endParaRPr b="0" lang="en-US" sz="1100" spc="-1" strike="noStrike">
              <a:solidFill>
                <a:srgbClr val="000000"/>
              </a:solidFill>
              <a:latin typeface=".VnRevue"/>
            </a:endParaRPr>
          </a:p>
        </p:txBody>
      </p:sp>
      <p:sp>
        <p:nvSpPr>
          <p:cNvPr id="75" name="Text Box 13"/>
          <p:cNvSpPr/>
          <p:nvPr/>
        </p:nvSpPr>
        <p:spPr>
          <a:xfrm>
            <a:off x="1066680" y="4473720"/>
            <a:ext cx="2448000" cy="31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án thẳng</a:t>
            </a:r>
            <a:endParaRPr b="0" lang="en-US" sz="1100" spc="-1" strike="noStrike">
              <a:solidFill>
                <a:srgbClr val="000000"/>
              </a:solidFill>
              <a:latin typeface=".VnRevue"/>
            </a:endParaRPr>
          </a:p>
        </p:txBody>
      </p:sp>
      <p:sp>
        <p:nvSpPr>
          <p:cNvPr id="76" name="Text Box 14"/>
          <p:cNvSpPr/>
          <p:nvPr/>
        </p:nvSpPr>
        <p:spPr>
          <a:xfrm>
            <a:off x="1066680" y="4876920"/>
            <a:ext cx="2448000" cy="42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Bán qua kho trạm, cửa hàng</a:t>
            </a:r>
            <a:endParaRPr b="0" lang="en-US" sz="1100" spc="-1" strike="noStrike">
              <a:solidFill>
                <a:srgbClr val="000000"/>
              </a:solidFill>
              <a:latin typeface=".VnRevue"/>
            </a:endParaRPr>
          </a:p>
        </p:txBody>
      </p:sp>
      <p:sp>
        <p:nvSpPr>
          <p:cNvPr id="77" name="Text Box 15"/>
          <p:cNvSpPr/>
          <p:nvPr/>
        </p:nvSpPr>
        <p:spPr>
          <a:xfrm>
            <a:off x="1066680" y="5383080"/>
            <a:ext cx="2448000" cy="4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o từng hợp đồng</a:t>
            </a:r>
            <a:endParaRPr b="0" lang="en-US" sz="1100" spc="-1" strike="noStrike">
              <a:solidFill>
                <a:srgbClr val="000000"/>
              </a:solidFill>
              <a:latin typeface=".VnRevue"/>
            </a:endParaRPr>
          </a:p>
        </p:txBody>
      </p:sp>
      <p:sp>
        <p:nvSpPr>
          <p:cNvPr id="78" name="Text Box 16"/>
          <p:cNvSpPr/>
          <p:nvPr/>
        </p:nvSpPr>
        <p:spPr>
          <a:xfrm>
            <a:off x="1066680" y="5862600"/>
            <a:ext cx="244800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gắn hạn</a:t>
            </a:r>
            <a:endParaRPr b="0" lang="en-US" sz="1100" spc="-1" strike="noStrike">
              <a:solidFill>
                <a:srgbClr val="000000"/>
              </a:solidFill>
              <a:latin typeface=".VnRevue"/>
            </a:endParaRPr>
          </a:p>
        </p:txBody>
      </p:sp>
      <p:sp>
        <p:nvSpPr>
          <p:cNvPr id="79" name="Text Box 17"/>
          <p:cNvSpPr/>
          <p:nvPr/>
        </p:nvSpPr>
        <p:spPr>
          <a:xfrm>
            <a:off x="1066680" y="6224760"/>
            <a:ext cx="2448000" cy="32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ài hạn</a:t>
            </a:r>
            <a:endParaRPr b="0" lang="en-US" sz="1100" spc="-1" strike="noStrike">
              <a:solidFill>
                <a:srgbClr val="000000"/>
              </a:solidFill>
              <a:latin typeface=".VnRevue"/>
            </a:endParaRPr>
          </a:p>
        </p:txBody>
      </p:sp>
      <p:sp>
        <p:nvSpPr>
          <p:cNvPr id="80" name="Text Box 18"/>
          <p:cNvSpPr/>
          <p:nvPr/>
        </p:nvSpPr>
        <p:spPr>
          <a:xfrm>
            <a:off x="4627440" y="1447920"/>
            <a:ext cx="1335240" cy="59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ặc điểm hình thành</a:t>
            </a:r>
            <a:endParaRPr b="0" lang="en-US" sz="1100" spc="-1" strike="noStrike">
              <a:solidFill>
                <a:srgbClr val="000000"/>
              </a:solidFill>
              <a:latin typeface=".VnRevue"/>
            </a:endParaRPr>
          </a:p>
        </p:txBody>
      </p:sp>
      <p:sp>
        <p:nvSpPr>
          <p:cNvPr id="81" name="Text Box 19"/>
          <p:cNvSpPr/>
          <p:nvPr/>
        </p:nvSpPr>
        <p:spPr>
          <a:xfrm>
            <a:off x="4627440" y="2575080"/>
            <a:ext cx="1335240" cy="752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ặc điểm đối với hệ thống quản lý</a:t>
            </a:r>
            <a:endParaRPr b="0" lang="en-US" sz="1100" spc="-1" strike="noStrike">
              <a:solidFill>
                <a:srgbClr val="000000"/>
              </a:solidFill>
              <a:latin typeface=".VnRevue"/>
            </a:endParaRPr>
          </a:p>
        </p:txBody>
      </p:sp>
      <p:sp>
        <p:nvSpPr>
          <p:cNvPr id="82" name="Text Box 20"/>
          <p:cNvSpPr/>
          <p:nvPr/>
        </p:nvSpPr>
        <p:spPr>
          <a:xfrm>
            <a:off x="4627440" y="3625920"/>
            <a:ext cx="1335240" cy="59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 khâu trung gian</a:t>
            </a:r>
            <a:endParaRPr b="0" lang="en-US" sz="1100" spc="-1" strike="noStrike">
              <a:solidFill>
                <a:srgbClr val="000000"/>
              </a:solidFill>
              <a:latin typeface=".VnRevue"/>
            </a:endParaRPr>
          </a:p>
        </p:txBody>
      </p:sp>
      <p:sp>
        <p:nvSpPr>
          <p:cNvPr id="83" name="Text Box 21"/>
          <p:cNvSpPr/>
          <p:nvPr/>
        </p:nvSpPr>
        <p:spPr>
          <a:xfrm>
            <a:off x="4516560" y="4743360"/>
            <a:ext cx="1334880" cy="65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Theo hình thức bán hàng</a:t>
            </a:r>
            <a:endParaRPr b="0" lang="en-US" sz="1100" spc="-1" strike="noStrike">
              <a:solidFill>
                <a:srgbClr val="000000"/>
              </a:solidFill>
              <a:latin typeface=".VnRevue"/>
            </a:endParaRPr>
          </a:p>
        </p:txBody>
      </p:sp>
      <p:sp>
        <p:nvSpPr>
          <p:cNvPr id="84" name="Text Box 22"/>
          <p:cNvSpPr/>
          <p:nvPr/>
        </p:nvSpPr>
        <p:spPr>
          <a:xfrm>
            <a:off x="4516560" y="5796000"/>
            <a:ext cx="1334880" cy="65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ộ bền vững</a:t>
            </a:r>
            <a:endParaRPr b="0" lang="en-US" sz="1100" spc="-1" strike="noStrike">
              <a:solidFill>
                <a:srgbClr val="000000"/>
              </a:solidFill>
              <a:latin typeface=".VnRevue"/>
            </a:endParaRPr>
          </a:p>
        </p:txBody>
      </p:sp>
      <p:sp>
        <p:nvSpPr>
          <p:cNvPr id="85" name="Text Box 23"/>
          <p:cNvSpPr/>
          <p:nvPr/>
        </p:nvSpPr>
        <p:spPr>
          <a:xfrm>
            <a:off x="6853320" y="3241800"/>
            <a:ext cx="1224000" cy="156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n hệ kinh tế giữa các doanh nghiệp (hình thức tổ chức)</a:t>
            </a:r>
            <a:endParaRPr b="0" lang="en-US" sz="1100" spc="-1" strike="noStrike">
              <a:solidFill>
                <a:srgbClr val="000000"/>
              </a:solidFill>
              <a:latin typeface=".VnRevue"/>
            </a:endParaRPr>
          </a:p>
        </p:txBody>
      </p:sp>
      <p:sp>
        <p:nvSpPr>
          <p:cNvPr id="86" name="Line 24"/>
          <p:cNvSpPr/>
          <p:nvPr/>
        </p:nvSpPr>
        <p:spPr>
          <a:xfrm flipH="1" flipV="1">
            <a:off x="3530160" y="1383840"/>
            <a:ext cx="109692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7" name="Line 25"/>
          <p:cNvSpPr/>
          <p:nvPr/>
        </p:nvSpPr>
        <p:spPr>
          <a:xfrm flipH="1">
            <a:off x="3514320" y="1644480"/>
            <a:ext cx="111276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8" name="Line 26"/>
          <p:cNvSpPr/>
          <p:nvPr/>
        </p:nvSpPr>
        <p:spPr>
          <a:xfrm flipH="1" flipV="1">
            <a:off x="3514320" y="2523960"/>
            <a:ext cx="111276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9" name="Line 27"/>
          <p:cNvSpPr/>
          <p:nvPr/>
        </p:nvSpPr>
        <p:spPr>
          <a:xfrm flipH="1">
            <a:off x="3514320" y="2903400"/>
            <a:ext cx="1112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0" name="Line 28"/>
          <p:cNvSpPr/>
          <p:nvPr/>
        </p:nvSpPr>
        <p:spPr>
          <a:xfrm flipH="1">
            <a:off x="3514320" y="2903400"/>
            <a:ext cx="111276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1" name="Line 29"/>
          <p:cNvSpPr/>
          <p:nvPr/>
        </p:nvSpPr>
        <p:spPr>
          <a:xfrm flipH="1">
            <a:off x="3514320" y="5072040"/>
            <a:ext cx="1001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3600" spc="-1" strike="noStrike">
              <a:solidFill>
                <a:srgbClr val="000000"/>
              </a:solidFill>
              <a:latin typeface=".VnRevue"/>
            </a:endParaRPr>
          </a:p>
        </p:txBody>
      </p:sp>
      <p:sp>
        <p:nvSpPr>
          <p:cNvPr id="92" name="Line 30"/>
          <p:cNvSpPr/>
          <p:nvPr/>
        </p:nvSpPr>
        <p:spPr>
          <a:xfrm flipH="1" flipV="1">
            <a:off x="3530160" y="4629240"/>
            <a:ext cx="986040" cy="44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3" name="Line 31"/>
          <p:cNvSpPr/>
          <p:nvPr/>
        </p:nvSpPr>
        <p:spPr>
          <a:xfrm flipH="1" flipV="1">
            <a:off x="3498480" y="5590800"/>
            <a:ext cx="101772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4" name="Line 32"/>
          <p:cNvSpPr/>
          <p:nvPr/>
        </p:nvSpPr>
        <p:spPr>
          <a:xfrm flipH="1">
            <a:off x="3514320" y="6059520"/>
            <a:ext cx="100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5" name="Line 33"/>
          <p:cNvSpPr/>
          <p:nvPr/>
        </p:nvSpPr>
        <p:spPr>
          <a:xfrm flipH="1">
            <a:off x="3514320" y="6059520"/>
            <a:ext cx="1001880" cy="34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6" name="Line 34"/>
          <p:cNvSpPr/>
          <p:nvPr/>
        </p:nvSpPr>
        <p:spPr>
          <a:xfrm flipH="1">
            <a:off x="5962680" y="3889440"/>
            <a:ext cx="89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7" name="Line 35"/>
          <p:cNvSpPr/>
          <p:nvPr/>
        </p:nvSpPr>
        <p:spPr>
          <a:xfrm flipH="1">
            <a:off x="5889240" y="3889440"/>
            <a:ext cx="963720" cy="98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8" name="Line 36"/>
          <p:cNvSpPr/>
          <p:nvPr/>
        </p:nvSpPr>
        <p:spPr>
          <a:xfrm flipH="1">
            <a:off x="5869080" y="3889440"/>
            <a:ext cx="984240" cy="21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9" name="Line 37"/>
          <p:cNvSpPr/>
          <p:nvPr/>
        </p:nvSpPr>
        <p:spPr>
          <a:xfrm flipH="1" flipV="1">
            <a:off x="5969160" y="2968560"/>
            <a:ext cx="884160" cy="92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0" name="Line 38"/>
          <p:cNvSpPr/>
          <p:nvPr/>
        </p:nvSpPr>
        <p:spPr>
          <a:xfrm flipH="1" flipV="1">
            <a:off x="5957640" y="1730160"/>
            <a:ext cx="895320" cy="21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1" name="Line 39"/>
          <p:cNvSpPr/>
          <p:nvPr/>
        </p:nvSpPr>
        <p:spPr>
          <a:xfrm flipH="1" flipV="1">
            <a:off x="3514320" y="2236680"/>
            <a:ext cx="1112760" cy="65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2" name="Line 40"/>
          <p:cNvSpPr/>
          <p:nvPr/>
        </p:nvSpPr>
        <p:spPr>
          <a:xfrm flipH="1" flipV="1">
            <a:off x="3514320" y="3770280"/>
            <a:ext cx="111276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3" name="Line 41"/>
          <p:cNvSpPr/>
          <p:nvPr/>
        </p:nvSpPr>
        <p:spPr>
          <a:xfrm flipH="1">
            <a:off x="3514320" y="3946680"/>
            <a:ext cx="11127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6A0B2377-6E3F-4903-8AD2-ECCE422542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105" name="Text Box 3"/>
          <p:cNvSpPr/>
          <p:nvPr/>
        </p:nvSpPr>
        <p:spPr>
          <a:xfrm>
            <a:off x="380880" y="1371600"/>
            <a:ext cx="8534520" cy="4701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Xu hướng các mối quan hệ kinh tế trong thương mại: ngày càng trở nên phức tạp là do:</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nhất,</a:t>
            </a:r>
            <a:r>
              <a:rPr b="0" lang="en-US" sz="2400" spc="-1" strike="noStrike">
                <a:solidFill>
                  <a:srgbClr val="000000"/>
                </a:solidFill>
                <a:latin typeface="Times New Roman"/>
              </a:rPr>
              <a:t> quy mô sản xuất kinh doanh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hai,</a:t>
            </a:r>
            <a:r>
              <a:rPr b="0" lang="en-US" sz="2400" spc="-1" strike="noStrike">
                <a:solidFill>
                  <a:srgbClr val="000000"/>
                </a:solidFill>
                <a:latin typeface="Times New Roman"/>
              </a:rPr>
              <a:t> mở rộng danh mục sản phẩm sản xuất, kinh doanh.</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tư,</a:t>
            </a:r>
            <a:r>
              <a:rPr b="0" lang="en-US" sz="2400" spc="-1" strike="noStrike">
                <a:solidFill>
                  <a:srgbClr val="000000"/>
                </a:solidFill>
                <a:latin typeface="Times New Roman"/>
              </a:rPr>
              <a:t> sự phát triển sản xuất kinh doanh trên những vùng mới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imes New Roman"/>
              </a:rPr>
              <a:t>Thứ năm,</a:t>
            </a:r>
            <a:r>
              <a:rPr b="0" lang="pt-BR" sz="2400" spc="-1" strike="noStrike">
                <a:solidFill>
                  <a:srgbClr val="000000"/>
                </a:solidFill>
                <a:latin typeface="Times New Roman"/>
              </a:rPr>
              <a:t> chuyên môn hoá sản xuất phát triển</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imes New Roman"/>
              </a:rPr>
              <a:t>Theo ý kiến của các nhà kinh tế học, các mối quan hệ kinh tế tăng lên theo bình phương tăng của sản xuất</a:t>
            </a:r>
            <a:r>
              <a:rPr b="0"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832369AA-F272-43C9-9913-051CDFF389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I.</a:t>
            </a:r>
            <a:r>
              <a:rPr b="0" lang="pt-BR" sz="3200" spc="-1" strike="noStrike">
                <a:solidFill>
                  <a:srgbClr val="009999"/>
                </a:solidFill>
                <a:latin typeface="Times New Roman"/>
              </a:rPr>
              <a:t>  Kinh doanh và mục tiêu của kinh doanh thương mại hàng h</a:t>
            </a:r>
            <a:r>
              <a:rPr b="0" lang="pt-BR" sz="3200" spc="-1" strike="noStrike">
                <a:solidFill>
                  <a:srgbClr val="000000"/>
                </a:solidFill>
                <a:latin typeface="Times New Roman"/>
              </a:rPr>
              <a:t>óa</a:t>
            </a:r>
            <a:endParaRPr b="0" lang="en-US" sz="3200" spc="-1" strike="noStrike">
              <a:solidFill>
                <a:srgbClr val="000000"/>
              </a:solidFill>
              <a:latin typeface="Arial"/>
            </a:endParaRPr>
          </a:p>
        </p:txBody>
      </p:sp>
      <p:sp>
        <p:nvSpPr>
          <p:cNvPr id="107" name="Text Box 3"/>
          <p:cNvSpPr/>
          <p:nvPr/>
        </p:nvSpPr>
        <p:spPr>
          <a:xfrm>
            <a:off x="304920" y="137160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9999"/>
                </a:solidFill>
                <a:latin typeface="Times New Roman"/>
              </a:rPr>
              <a:t>Các khái niệ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là việc thực hiện một, một số hoặc tất cả các công đoạn của quá trình đầu tư, từ sản xuất đến tiêu thụ sản phẩm hoặc cung ứng dịch vụ trên thị trường nhằm mục đích sinh lợi.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thương mại là sự đầu tư tiền của, công sức của một cá nhân hay tổ chức kinh tế vào lĩnh vực mua bán hàng hóa nhằm tìm kiếm lợi nhuận.</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2FEC07E1-DD32-4EAB-8990-09CB9C8C0C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8:14Z</dcterms:modified>
  <cp:revision>47</cp:revision>
  <dc:subject/>
  <dc:title>Slide 1</dc:title>
</cp:coreProperties>
</file>